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0CB-2513-429A-A40D-F888CF42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4DB-39CB-4751-B198-80CC8FBB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41D-2976-4D85-824E-47F2762D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98E-A5B4-4976-989A-28302150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1E2-2058-45ED-BB57-C3E6074E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7907-F695-4A0B-9B4F-EBD19DA1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27F-FB72-47B6-AA8F-A557F8F0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B60-A56D-4208-8F08-59004E23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C1A-9D80-471D-B99B-ECFE9960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1C77-6B26-4E5B-9F35-190A356A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76C-EAF8-49E9-A96A-30C1AE43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3FF-4762-4E27-9BF1-583963D7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426C-5746-4E48-8FA0-7A104381F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finance.yahoo.com/" TargetMode="External"/><Relationship Id="rId2" Type="http://schemas.openxmlformats.org/officeDocument/2006/relationships/hyperlink" Target="http://finance.yahoo.com/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M 4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Engineering Econo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DEA2-7D92-4BD3-9172-45D3BB83F8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lide_rule" descr=""/>
          <p:cNvPicPr/>
          <p:nvPr/>
        </p:nvPicPr>
        <p:blipFill>
          <a:blip r:embed="rId1"/>
          <a:stretch/>
        </p:blipFill>
        <p:spPr>
          <a:xfrm>
            <a:off x="685800" y="520560"/>
            <a:ext cx="7620120" cy="574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5084-85B7-48D5-B5BF-E5FFB44F27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use formulas and tables when you use a slide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class will cover formulas and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 review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 appendix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8FE-01A3-4FA6-9259-671D6C83B4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% 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similar spread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BCB-92B6-46B9-81F3-BD78B81989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orrow $4000, Repay in 4 y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payments on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only payments each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annual 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nothing until the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05A-B278-4142-8BE8-B5AA787693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158760"/>
          <a:ext cx="9207360" cy="48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760"/>
                    <a:ext cx="920736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262-76FD-42DA-B8F9-CFE3B1AA6E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533520"/>
          <a:ext cx="9144000" cy="51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E48-2F5E-4419-8F69-484BA4D741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380880"/>
          <a:ext cx="914400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8EF-C764-4A8C-87C6-E2BE0996C8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380880"/>
          <a:ext cx="91440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7F0-4FF7-4591-AFCC-85E3344FF3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payments on princip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only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,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annual payments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,0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until the e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,8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917-C9E1-4E28-BF1F-69185CF037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preadsheet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438280"/>
            <a:ext cx="7086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@PV(pmt, rate, np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@RATE(fv, pv, np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@PMT(rate, nper, pv,&lt;fv&gt;,&lt;type&gt;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AB3-9FEB-4E9B-B74A-3E0525D256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e Investment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defined, bette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criteria for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need to analyze the dif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future cash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k costs (e.g. stock mark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46D-3CB5-40AD-805F-32C1B240E7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S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S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0B0-9771-4158-A13E-4E3F610DB7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um Attractive Rate of Return (MARR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ower than market interes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r money could earn else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best answer, for your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for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AC5-8363-493C-B089-85715CDE3F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Accounting (5 minut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s period, say on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in time, say year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ty = Assets –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some on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finance.yahoo.com/?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, Exc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B83-CE64-449F-9375-365C388D78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e MARR from financial rec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on Investment (before ta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year’s net income / last year’s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o estimate MARR fo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year’s interest / last year’s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of C + 3% estimate MAR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BAA-4D06-40C5-8CC5-095985C582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roblem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row $75,000 for a new Beam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y in 36 equal monthly 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est 18% per year, compounded month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e Example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4FF-C16E-4C48-A166-8713AD74DC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roblem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will a series of ten semi-annual $1000 payments compound to, six months after the last payment if interest is six percent per year, compounded semi-annuall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A8B-FFD5-4EB9-837A-A62EC1D94B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roblem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il Companies are studying the feasibility of building a pipeline to deliver North Slope natural gas to the Lower 48.  If the cost of building the line is $18 billion, and the MARR is 15%, what must the U.S. market gas price be in order to justify its constru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AB9-3413-4DCB-8D24-C8B8FB01EC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 of Intangi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ony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ang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reduc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asi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duced to $$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, “Semi-quantitativ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dow Pr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E5B-FF71-40FE-9FD4-0D0F4CC0F2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est and Equiva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ey has a time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ation….Bank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ce at some rate of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902-45D8-4B9F-8632-BB0C0ADCB0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est =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nnual rate if not stated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” or “nomina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unding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= (1+r/m)^m -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r = nominal, m = number of peri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even i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BFC-9511-44FF-917C-658694F28B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 Interest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%/Year, compounded month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= nominal interest rate = 1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= number of periods = 12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effect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1 + r/m)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1 + 0.12 / 12)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.6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486-478D-4B6D-9217-22B4BAFA38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s (+) = income, (-) =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ime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consistent with “point of view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 of period con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6FE-D18E-4E27-8534-0EE38DBD77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2590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705720" y="129492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590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8006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4800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705720" y="35053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4800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800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62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92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30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62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4800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1EC-33FC-4414-90C8-36297603CB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ways to sol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ics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spreadsheets (Exc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6F0-710E-41AA-9989-4B668CA6FD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03:46:19Z</dcterms:created>
  <dc:creator>Robert A. Perkins</dc:creator>
  <dc:description/>
  <dc:language>en-US</dc:language>
  <cp:lastModifiedBy>Robert A. Perkins</cp:lastModifiedBy>
  <cp:lastPrinted>2002-01-21T06:05:38Z</cp:lastPrinted>
  <dcterms:modified xsi:type="dcterms:W3CDTF">2005-09-06T00:41:06Z</dcterms:modified>
  <cp:revision>11</cp:revision>
  <dc:subject/>
  <dc:title>ESM 450</dc:title>
</cp:coreProperties>
</file>